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6FDD-E1E2-4452-9FB5-85172B1CA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9F0B-8895-490E-BE1D-9491B0B0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2FA21-33E4-47EB-A87E-FD5DE19A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A5027-F588-4E54-B1F1-6CC7F7AE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1F1B3-571D-4895-B317-A71714B7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DFCE4-3817-4CB0-895A-9C6DF448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76179-1E03-470B-BD4B-E1633842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4888E-4C99-4AE8-89F6-18231BFB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418E5-423F-410B-81A6-87DDDDA4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3FBD0-F964-4FFC-87A8-5245771F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31AC4-D692-4421-83A9-6048B5EFA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BC307-263F-49DF-9C69-511A4E69E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2190-C235-483A-BE52-2F62744D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2B9B6-D086-458E-8171-18E20A8C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4A809-E6CF-4464-AF9C-EEC05D4A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C1F786-3D7F-49A5-BF58-12E42609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8C554-5DBB-4144-863E-A2539D5A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FE7AA-3709-4751-BB38-10C73CA6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9775C-67DA-46BD-80E4-0D0C317D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C7B46-7A62-4DD2-90C6-E73A3DC6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2BB539-762A-49D8-9DE2-D2A62D3B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0AB7F6-E567-4A00-A0A2-E4B1F72A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A1A2A-8EC0-45BC-AD46-1428FA775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88BF-3886-45FE-8A1E-FE4403E91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E9048-EC13-40E4-9234-9AF28F017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8EA4C-E155-49A4-8AD1-88C99B784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6A7C8-E5A5-439D-BC45-85997131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49D46-86A9-4D5E-A456-F3CC6BD6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268EE-6196-4CAA-AFB8-6BCAB100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6D81C-373C-415C-A30C-EEF97D1C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C8AB7-3FA9-480C-B261-CD1FC0A7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6AD72-CBAB-47F7-A492-CE80EBBD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51908-E08C-4A20-8479-8C8BB328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AE703-1B1F-4746-A7D4-7A5D830F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BEDA-4A87-45B4-BD2F-08FEBBBA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ACC45-A331-4566-B645-80EC602E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944EB-6D5B-486E-843D-AEC719FEB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ACAD4-0452-4AF3-981B-E6C9C144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9A8049-4CD0-479F-BC6A-4B20E8DA1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D24C78-E1ED-4629-8304-BAAF5BC8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05B503-39A1-40A9-9416-4DACF952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BB9B2E-E535-411F-8698-5F229580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842266-334D-4A0B-A5A3-4E17457E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3708CF-21D3-4A8A-8BFD-E4A83E45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AC8265-B627-400D-A978-F2074DB9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837A-486D-46B8-94C9-E6F55E73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07791-9827-4C0A-B7EC-F80ABB60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68680C-F94A-4609-8DFB-6C617C58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75C979-9114-44D7-85A9-0C742370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D0331E-0CE6-4108-9549-03B10D828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5C59D-1A07-43BC-91AD-6DA461EC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BF19-949E-4FB1-94F1-57291E3E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AE74-6A63-489A-A869-E66B5AED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401C-EF29-427D-87D8-534234B3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152E-6845-403C-BAA8-6BFD415A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FB0D-B6B4-4882-928F-4D0499CB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E3CB-DF93-4127-926E-D3F46627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9F48-C9E0-4195-9D11-1DB3DAE0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7EAF-5386-482E-B911-ED544A22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B4B7-33C2-4C1E-9953-F8955BC1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8595-A4B9-4119-AAB8-EB979C0E6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90D7-CB0F-4C04-B37E-257010663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65CE4-AC99-4ACD-805F-02F8A5910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8F09C-9070-441E-B117-E199381D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B68ED-6F62-411F-A775-12FF3ACA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D4BD7-22FD-4A49-BC5D-1D4D0D3F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9310B-645B-4A3F-9DB5-E7777CA2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3FEB-73A6-4B8D-91F9-48E6EFA7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5152C-730F-4F61-BB2F-C4786D67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2921A-DFAB-4C16-896E-A8B35C01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9AF7A-C11B-4BA5-B771-E04E6D5B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B88E2-44AD-4D01-AE8B-6E534E6B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7A635-B0C2-49C8-A7AA-9BBC0BF3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9B930-385F-44DD-AC2E-8E7208843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6E980-24F8-40D1-B7A1-3F551CFCB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0845B-99DE-4172-A3ED-6A170784A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8B8D5-2C6D-47AA-BB7B-7D9BEC15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7B800-F335-4468-AF1D-4E1F652C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2329-EC26-430C-83BE-025FC015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0722B-E496-41F6-A8CB-0F039FB9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65C98-48EE-47DD-B64D-92ADBCE1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E044B-5425-41B1-862C-5A428084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5E793-C236-4D22-96DD-63FA6F65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89401-5839-4B19-8DE4-74623934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D24D1-A0F5-425F-8CDB-60651596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573D8-40A9-4A3A-9CCA-A1284A2D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F005E-1EE9-40D8-BACB-BDD3581C5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7B46D-25D8-4046-8BE5-6090970CA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7B230-9CA0-441E-A1F5-E899292B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181E-3A75-4F69-B4AE-1A79C36D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479C9-6FDB-46DB-829A-4B4221B5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F72C9-FECB-4A2C-AB64-94930257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D8CF6-C597-404D-8FBB-2F548560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AF132-EE5C-431D-B639-69A0F72F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77274-2226-4D72-B445-CA4530C9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771DC-D010-491E-B44D-CA46B2AF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E28FE-9EAC-4A25-BFE9-E70569FE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73B99-F59E-4CA5-94F1-1905D04B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6F73B-5636-414D-BA97-F43E4493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BE96E-AAAD-4AEC-AE6C-3537EBF29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BF31-086E-4317-997D-F8FBB77F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E0172-B162-40B9-92F5-4C3913DA9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43B47-98EF-4EC0-99A2-41FCBEFAD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36918-0EC1-4550-A99E-3C4791A4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C18F8-904D-442B-BCC1-CAC6B808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782B5-355C-4117-B958-0F337A3A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8D82A-217E-4A59-9ACB-2EEAAF87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88926-E36B-4BC3-87FF-1634A16C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F1EF6-0D10-4B1F-A298-611F6739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F378C-ABC5-4976-B6D2-F1336DCC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619EB-4335-4880-B5A4-5E25CEF2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4890-9B1D-457A-A8FB-D9998AD5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840CA-BCAF-4D88-8810-2BBDAB98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72235-251E-487A-BDE6-3507B612C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E0101-4F25-4928-9A88-76F4DC14D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F1F6C-9C74-4F9D-8AD2-50E996BC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E67BD-DF97-4B10-8DB1-AEE6E692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1F5EA-1427-4475-A855-54D88358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50887-87CA-4629-9279-4BEB686D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74A04-9F08-4A87-BE5B-7BB8E072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F4425-7625-440E-ACEC-86D9942D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830F0-2EBE-4FBF-BB34-683CAB63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80B5-F051-4ED2-8461-FA74D8B4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00ECE-B5AA-434B-8FC0-4F1485C6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FB056-676A-4C2C-8D5E-7771191A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263C8-61AC-44A9-9F20-AF34767F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DE854-4120-4286-8130-BBF25B234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7ECA2-8EEB-4A55-930D-715331C79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D0165-DE9D-440B-A90F-E6105BD8A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09956-5A16-45EF-86C4-611DE701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B792C-55C5-4737-A4FA-1C213AED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6A631-0E5E-416B-8F9B-EC6B7D2A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8EDEA-6C50-48BD-80FC-6DF53E0C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5530-74E2-404E-B6B5-7D4F3F9F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6B215-E95A-4902-BE8A-8CC126A4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0A2E1-7996-4700-96C2-DA9ACB9C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00DFA-E719-4788-952F-BCEB9500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E2FD2-7C4C-4BF4-8F8D-BAC36DE2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C4662-AAD8-48C5-895C-01599EE5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F82B6-C9D0-4C4D-A851-5E04A881C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99DBE-E2C1-45E1-9CAF-AF4974BF5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719B1-0BA1-405C-A75B-35F6F874B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E7D48-9377-454A-92E1-624377C5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2D5B9-23AA-4B50-B807-589DBCDD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ABB9-2113-4745-B8BE-3EC8647A200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F43F-0FDC-4A9A-A5E1-53D5B754F19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7305-B8BE-4C2A-9A3F-317EEE3271C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5984-F0B7-494D-BB01-46B2714A40D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83BE-6D93-4B19-B0A0-C3CEEFA71A4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F3AD-D65F-4112-9A2A-64491091FC9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2387-7E72-47DE-921A-D011BA76705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D520-09E3-4708-BA2D-A4C7529FCFA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6A6E-D9E6-45DF-8A6E-DBA9A765950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E70A-61D4-45CC-AFF4-8E88D6F81BD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BD2B-7AEE-474C-8A66-28AED3643E8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B82A-C8A2-4BB3-BD86-8D4FCBB0E4F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77 Tá krásna nád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rdci blaží ná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á krásna nád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rdci blaží n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k nám sa vráti drahý Pá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uvidíme slávy jeho j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k ako sľúbil nám on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me, že už dozrel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namení znie jasný hl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vučte všade piesne chváľ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aleluja! Kristus, Kráľ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á krásna nád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rdci blaží n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k nám sa vráti drahý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á krásna nád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jednocuje nás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skoro príde drahý Pá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sveta večnýc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hynúcich kr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ojsť smieme s ní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slávy br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ým je ešte na to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me vydať jasný hlas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áľovské znie pozvanie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pravené všetko j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á krásna nád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jednocuje n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k nám sa vrá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istus, Kráľ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2T16:39:31Z</dcterms:created>
  <dc:creator>MD</dc:creator>
  <dc:description/>
  <dc:language>en-US</dc:language>
  <cp:lastModifiedBy>DUMAS Ing. Dušan Bielik</cp:lastModifiedBy>
  <dcterms:modified xsi:type="dcterms:W3CDTF">2025-01-06T18:45:37Z</dcterms:modified>
  <cp:revision>9</cp:revision>
  <dc:subject/>
  <dc:title>Bez nadpisu</dc:title>
</cp:coreProperties>
</file>